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B9DC-C747-41C2-A3E3-6DC49F976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E0BF-BBA6-4AF5-973B-4FF7D0B2D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090F-5E18-40D2-953E-A495022D1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01AB-8D28-48B8-A3F1-B42698082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3DEA-8373-4489-8FDC-0DECA3D48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38FB-B39B-4886-9EA7-74FD6A61D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9351-91F3-43B9-943B-A3DF75782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57FF-EB72-4D90-A8B2-551826B0C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F87E-19C8-4C70-9DA8-89524A23C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699B-44F5-4233-A3B6-841F63D7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F05E-1F3D-4915-8411-2B2FD76D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5FD9-A770-4D6A-9F81-B8C2758C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1E643-363B-45A0-BEA6-A66F32DBE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Large Sample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Confidence Interval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for the O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8001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7724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7724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848360" cy="22100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62120" y="3048120"/>
            <a:ext cx="78483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438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543800" cy="5943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197080" y="1065240"/>
            <a:ext cx="402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eneral Formu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3152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960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696080" cy="3187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85800" y="3505320"/>
            <a:ext cx="7696080" cy="1752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85800" y="5181480"/>
            <a:ext cx="769608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7086600" cy="1898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219320" y="2971800"/>
            <a:ext cx="7086600" cy="990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219320" y="3962520"/>
            <a:ext cx="70866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43000" y="457200"/>
            <a:ext cx="7086600" cy="1670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143000" y="2133720"/>
            <a:ext cx="7086600" cy="990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143000" y="3048120"/>
            <a:ext cx="7086600" cy="609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143000" y="3733920"/>
            <a:ext cx="70866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3T23:35:58Z</dcterms:modified>
  <cp:revision>42</cp:revision>
  <dc:subject/>
  <dc:title>PowerPoint Presentation</dc:title>
</cp:coreProperties>
</file>